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B941-6D5D-40B2-8A4F-1B296F374B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E9E1-B5FC-4514-84B2-C5127E03DB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8278-BB78-41E5-B7C2-FFD9B5B2B3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6244-36AF-453A-AD8B-D432526D36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4E0D-BD04-4E0D-8257-BFEE508A8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186C-6305-43CF-BC6F-BF0EF9F7A7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DE08-3C80-4E40-9F9C-CC6C587FE8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2A63-C6F1-4D68-8B77-51C9E7FEE1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19AA-B7EE-47C3-9CDE-2A8FFE065E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80F1-220E-4640-BB30-FC56FE0B50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C840-C7EA-4AE2-8871-8C0051F384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20E6-4824-4772-AF56-AA48DF89A0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2422-553E-4428-85FA-F1D4D44FA3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395C-7DBE-4E7D-B9FE-93A7D846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23E51-33BF-46F4-ADB5-40F98053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59EA-327B-4E65-9801-805228BB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8FDDA-56D3-40F5-B903-B731C517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874E-8277-4C84-ACA0-28BEC105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0165-5270-4C5B-A0FE-2EB1109F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1235-475D-4059-9118-1E638857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6830-604C-408C-9ECE-4419597E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365A-164B-49AA-9014-CA9DC901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B162-6327-4B8D-8AE2-0BF34154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7BEB-EA7E-42DB-B524-6ACB2811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FC694-BEDE-401C-80C2-461FBD94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3699-7466-4A61-A568-1EF48063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1C64-C5E9-4B5B-BECB-F9B95E45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6C63-DB0C-482F-8E19-577E98EC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CAA4-911B-43C0-8A22-EDD52EF9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4C40-AA5A-4ACD-97D5-5F6DF376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1166-FE78-47D1-9EB7-C4CB1752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22F32-6990-4A31-80BB-36E0B94E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01656-9F8B-451E-9378-25D9D168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4519-355A-43B8-AE3F-802F4FEE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4D98C-6641-4D82-A4B5-A21FAE9B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2C6B6-F58F-4C81-8425-54535173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EBCAC-D1F6-4C6B-8D6F-6F3B9E14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6944-C441-4B6D-B369-0813B01C68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F176-696A-451A-9D65-6F1ACBDB64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учно – исследовательская работа по т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14520" y="1642680"/>
            <a:ext cx="44672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Малые планеты      солнечн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Линкевич Ю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ница 10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У гимназии №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ода Балтий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ч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пушнян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рда Анатол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G:\100MEDIA\IMG_0747.JPG"/>
          <p:cNvPicPr/>
          <p:nvPr/>
        </p:nvPicPr>
        <p:blipFill>
          <a:blip r:embed="rId1"/>
          <a:stretch/>
        </p:blipFill>
        <p:spPr>
          <a:xfrm>
            <a:off x="928800" y="207180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мая «таинственная» план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у иногда называют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одной из самых таин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планет Солнечной систем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отный облачный покров окутывает ее поверх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Атмосфера на Венере была открыта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М. В. Ломонос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блюд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6 июня 1761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хождение Вен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 диску Солнца, он заметил, что в начале прохож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гда Венера только небольшой частью нашл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лнечный диск,  возникл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тонкое как волос сияние»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круживш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асть диска планеты, еще не вступившей на солнечный диск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схождении Венеры с диск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появился на краю Солнца пупырь, который тем явствен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учинялся, чем ближе Венера к выхождению приходила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и наблюдения послужили доказательством нали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у Ве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[49]"/>
          <p:cNvPicPr/>
          <p:nvPr/>
        </p:nvPicPr>
        <p:blipFill>
          <a:blip r:embed="rId1"/>
          <a:stretch/>
        </p:blipFill>
        <p:spPr>
          <a:xfrm>
            <a:off x="7500960" y="1571760"/>
            <a:ext cx="1643040" cy="21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орма и раз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76924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 тех пор пока для исследований Ве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спользовались только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оптические телескопы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авалось измерить лишь верхнюю границу радиу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лотного облачного покрова, закрывающего поверх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енеры. Появление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радиоинтерференционных методо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зволило перейти к исследованию ее тверд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верх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екторных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5 ± 0,1 к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ус верхней границы облак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2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i[49]"/>
          <p:cNvPicPr/>
          <p:nvPr/>
        </p:nvPicPr>
        <p:blipFill>
          <a:blip r:embed="rId1"/>
          <a:stretch/>
        </p:blipFill>
        <p:spPr>
          <a:xfrm>
            <a:off x="6500880" y="357120"/>
            <a:ext cx="2286000" cy="21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гура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Фигура планеты близка к сферическ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экваториальной плоскости полуо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ллипсо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в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2,02 ± 0,1 км и 6050,99 ± 0,14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ая полуос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в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 54 ± 0,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 ма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щ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0 ± 120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вердой части Венеры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85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твердой поверхности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ваторе Венеры достига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,6 м/с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i[2]"/>
          <p:cNvPicPr/>
          <p:nvPr/>
        </p:nvPicPr>
        <p:blipFill>
          <a:blip r:embed="rId1"/>
          <a:stretch/>
        </p:blipFill>
        <p:spPr>
          <a:xfrm>
            <a:off x="6227640" y="333360"/>
            <a:ext cx="22878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Поверхность Венеры преимуществ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равнинная, обнаружены и возвыш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области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а из них представляет собой  огро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вулканическое пла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чайшая вершина —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гора Максвел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 высота 12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пад высот вдоль экватора примерно 5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зшая точка на поверхности -на глубине 2,5 км от средн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в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 поверхности обнаружены кратеры, разломы и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изнаки протекавших на ней интенсивных тектониче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цессов. Отчетливо просматриваются и следы удар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мбардиро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Поверхность покрыта камнями и плитами разли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размеров; поверхностные породы близки по составу к зем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i[1]"/>
          <p:cNvPicPr/>
          <p:nvPr/>
        </p:nvPicPr>
        <p:blipFill>
          <a:blip r:embed="rId1"/>
          <a:stretch/>
        </p:blipFill>
        <p:spPr>
          <a:xfrm>
            <a:off x="6215040" y="549360"/>
            <a:ext cx="2455920" cy="25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которые физические и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имические параметр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н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яя плотно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0,951 г/с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ы пример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100 р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вышает массу атмосферы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Преобладающую долю атмосферы составля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глекислый газ ; азота водяного пара, кислород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В очень малых количествах имеются также примес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SO2, H2S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CO, HCl, H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лака Вене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стоят в основн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з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5-80-процен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рной 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центрация водяного пар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еличивается с высот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стигая максимума на высоте около 50 км, где она в сто ра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ше, чем у твердой поверхности, то есть доля пара на э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оте приближается к одному процент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вл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л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00 а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тность газа почти на два поряд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, чем в атмосфере Зем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i[1]"/>
          <p:cNvPicPr/>
          <p:nvPr/>
        </p:nvPicPr>
        <p:blipFill>
          <a:blip r:embed="rId1"/>
          <a:stretch/>
        </p:blipFill>
        <p:spPr>
          <a:xfrm>
            <a:off x="6500880" y="549360"/>
            <a:ext cx="242892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рс и его спу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арс, четвертая от Солнца, пла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олнеч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круг Марса обращаются два спутника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об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х) 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еймо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жа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б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350 км за 7 ч 39 м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м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3500 км за 30 ч 17 ми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а спутника имеют неправильную форму и всегда обращены к Мар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дной и той же сторон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х максимальные разм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6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лину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1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ирину у Фобо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у Дейм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равитационные поля спутников настолько слабые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мосферы они не име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оверхности обнаружены метеоритные крат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Фобо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упнейш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ер Стик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ет диамет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i[14]"/>
          <p:cNvPicPr/>
          <p:nvPr/>
        </p:nvPicPr>
        <p:blipFill>
          <a:blip r:embed="rId1"/>
          <a:stretch/>
        </p:blipFill>
        <p:spPr>
          <a:xfrm>
            <a:off x="6643800" y="2142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2960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Химический состав Марса типичен для планет Земной груп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конечно, существуют и специфические отлич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Здесь так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исходило раннее перераспределение вещества  п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здействием гравитации, на что указывают сохранивши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еды первичной магматической деятельности. Несмотря,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ительно   низкую  температуру и низкую 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ядр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арса богато железом и серой  невелико по размер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его радиус порядка 800-1000 км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 масса — около од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есятой всей массы план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ние яд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одолжалос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коло миллиарда л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пало с периодом раннего вулканизма. Еще такой же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ительности период заняло частичное плавление мантий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ликатов, сопровождавшееся интенсивными вулканическим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ктоническими явл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i[12]"/>
          <p:cNvPicPr/>
          <p:nvPr/>
        </p:nvPicPr>
        <p:blipFill>
          <a:blip r:embed="rId1"/>
          <a:stretch/>
        </p:blipFill>
        <p:spPr>
          <a:xfrm>
            <a:off x="6286680" y="214200"/>
            <a:ext cx="2500200" cy="1928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5646600" y="2003400"/>
            <a:ext cx="1843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ло 3 млрд. лет наз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вершилс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т период, и еще по крайней ме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чение миллиарда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долж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обальны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ктонические процес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уже нач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епенное охлаждение планеты, продолжающее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ы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нтия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огащена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ернистым желе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етные количества которого обнаружены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нных поверхностных породах, тогда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металлического жел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метно меньш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на других планетах Земной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Толщина литосферы Марс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— нескольк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сотен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включая примерн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0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ее к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тмосфера и вода на Марс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тмосфера на Марсе разрежена  и состоит из углекислого газа и малых добав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зота, аргона и кисл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нтрация водяного пара невелика, и она меняется в зависимости от сез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ществование воды на Марсе — один из главных вопросов в изучении этой плане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2004 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арсоходы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Спирит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Оппортьюнит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казали наличие воды в проб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сианского грунта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сть все основания полагать, что воды на Марсе немал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рельефа напоминают выглаженные ледниками учас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дя по хорошей сохранности этих форм, не успевших ни разрушиться, ни покры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следующими наслоениями, они имеют относительно недавнее происхожд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де же теперь марсианская вода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да существует и сейчас в виде мерзлот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есьма низких температурах на поверхности Марса на любой открыт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и воды быстро образуется толстая корка льда, которая, через корот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емя заносится пылью и пес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агодаря низкой теплопроводимости льда под его толщей местами мо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таваться и жидкая вода и подледные потоки воды продолжают и теперь углуб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усла некоторых рек, мости льда под его толщей местами может оставатьс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жидкая вода и, подледные потоки воды продолжают и теперь углублять рус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которых р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380880"/>
            <a:ext cx="584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713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7,99 млн.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7млн. 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арса вокруг Солнц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6,98 зем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ток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скор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битального дви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,13 км/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ваториальный ради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раве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94 к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—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76,4 км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сса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44 1023 к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95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алые планеты солнечной систем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123640" y="4266720"/>
            <a:ext cx="6867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Меркурий, Венера, Земля, Марс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экватор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,76 м/с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днако раз в 15-17 лет происходит так называемое вели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противостояние, когда  эти две планеты сближаются примерно на 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млн. км; последнее такое сближение имело место в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1988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 время великих противостояний Марс выглядит самой яр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вездой на полуночном небе, оранжево-красного цвета, вслед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го его стали считать атрибутом бога вой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о новый уровень исследований Марса начался в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196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их целей стали использоваться космические аппараты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ачале облетали планету, а затем и опускались на ее поверх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С име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стественных спутника —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бос и Дейм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 атмосферы: СО2 , N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СО,Н2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Участки поверхности Марса, покрытые кратерами, похожи на лу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матер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05nil042i"/>
          <p:cNvPicPr/>
          <p:nvPr/>
        </p:nvPicPr>
        <p:blipFill>
          <a:blip r:embed="rId1"/>
          <a:stretch/>
        </p:blipFill>
        <p:spPr>
          <a:xfrm>
            <a:off x="5145120" y="3357720"/>
            <a:ext cx="3998880" cy="3240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250920" y="1571760"/>
            <a:ext cx="806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, третья от Солнца большая планета Солнечной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годаря своим уникальным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единственным во Вселенной природным условиям, Земля стала местом, где возникла и получила развитие органическая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 движется вокруг Солн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эллиптической орби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ло отличающей от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5083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а, размеры 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вижение Земл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82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 форме Земля близка к эллипсоид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сплюснутому у полюсов и растянутому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экваториальной зо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ди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1,032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56,777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кваториаль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8,160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976·1024 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18 кг/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ем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ижется вокруг Солн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 средней скор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,765 км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эллипт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9,6 млн. к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иод одного обращ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орби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5,24 солнечных су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ащение Зем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круг собственной ос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,292115·10-5 рад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и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0,2 млн. км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, размеры 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движение Зем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уш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ставляет соответственн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9,2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 образуе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шес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атериков и остро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а поднимается  над уровнем моря в среднем н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75 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ибольшая высот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848 м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Горы занимают свыш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1/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рхности суши. Пустыни покрывают окол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оверх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ши, саванны и редколесья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са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дники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ыш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уши занято под сельскохозяйственными угодь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У Земли имеется единственный спутник — Лу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Ее орбита близка к окружности с радиусом около 384400 к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исхождение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современным космогоническ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лениям Земля образов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,6-4,7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из захваче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тяжением Солн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опланетного обла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но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,5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озникли условия, благоприятные для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озникновения жиз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0755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нутреннее стро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ную роль в исследовании внутреннего строения Земли играют сейсмические метод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анные на исследовании распространения в ее толще упругих волн, возникающих при сейсм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обытиях — при естественных землетрясениях и в результате взрыв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я условно разделяют на три области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ра, мантия и 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й слой —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ко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имеет среднюю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5 к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типы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земной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континентальный и океанический; в переходной зоне от материка к оке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а кора промежуточного ти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Толщина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еняется в довольно широких пределах: океаническая кора имеет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е плотности составляю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поверхности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грани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85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базаль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а глубину примерно от 35 до 2885 км простирается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мант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отделяется от коры резкой границей глубже, которой скорости как продольных, так и попере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угих сейсмических волн, а также механическая плотность скачкообразно возрастаю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лотности 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величиваются по мере возрастания глубины примерно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,3 до 9,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кор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обширные литосферные плиты влияющий на облик Зем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жидким. По современным представлениям 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 состо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 серы и желез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с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12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ейсмические методы обнаруживают наличие твердого внутреннего ядра,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ю которого приходи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7% массы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центральной части Земли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500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аксимальная 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приближается 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0 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инимальная составля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9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Плотность в центре Земли около </a:t>
            </a:r>
            <a:r>
              <a:rPr b="0" i="1" lang="ru-RU" sz="1400" spc="-1" strike="noStrike">
                <a:solidFill>
                  <a:srgbClr val="3333ff"/>
                </a:solidFill>
                <a:latin typeface="Arial"/>
              </a:rPr>
              <a:t>12,5 г/см3</a:t>
            </a: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 поверхностью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Земля окружена атм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жний ее сл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стирается в среднем до высоты 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км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 в тропосфере падает с увеличением высо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й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55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трат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здесь температура возрастает с увелич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оты. Выше находится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мез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над которой наблюдаются серебристые обла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громное значение имее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зо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слой озона, находящийся на высоте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ь 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8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ион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томы и молекулы в этом слое интенсивно ионизируются под действием солнеч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диации, ультрафиолетового излучения. Если бы не озоновый слой, потоки излуч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ходили бы до поверхности Земли, производя разрушения в имеющихся там жи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рганизм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 расстояниях более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1000 км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газ настолько разрежен, что столкновения между молекул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ерестают играть существенную роль, а атомы ионизированы более чем наполов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ысоте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6 и 3,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диусов Земли находятся радиационные поя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витационное поле Земли с высокой точностью описывается законом всемирного тягот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ьютона. Земля обладает также магнитным и электрическим по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гнитное поле над поверхностью Земли складывается из постоянной«главной» и перем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ей; последнюю обычно относят к вариациям магнитного поля. Главное магнитное поле име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у, близкую к дипольно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ый дипольный мо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, равны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,98·1025 едини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ГС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ряженности магнитного пол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северном и южном магнитных полюсах рав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ответственн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58 и 0,68 Э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 на геомагнитном экваторе — около 0,4 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над поверхностью Земли в среднем имеет напряженность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 В/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авлено вертикально вниз — это так называемо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сной погоды»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о это поле испытыв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чительные вари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Естественный спутник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тоянии 384 400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 орбиты к плоскости эклиптики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 °8 ¢43 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,35 .1022 к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радиус Луны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38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,62 м/с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лотность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343 кг/м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дер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,3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од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9,5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Светит отраженным солнечным светом, визуальное сферическое альбедо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0,75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Поверхность Луны в основном гориста, покрыта многочисленными крат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ударного происхожд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нный грунт — регол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Лу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-400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гнитное поле £ 4 г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Первый человек ступил на поверхность Луны 21 июля 196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l_533i"/>
          <p:cNvPicPr/>
          <p:nvPr/>
        </p:nvPicPr>
        <p:blipFill>
          <a:blip r:embed="rId1"/>
          <a:stretch/>
        </p:blipFill>
        <p:spPr>
          <a:xfrm>
            <a:off x="5715000" y="260280"/>
            <a:ext cx="3005280" cy="31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Луне даже невооруженным глазом различимы темн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носительно ровные участки, называемые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орям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разделяющие их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етлые —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атерик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континенты»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долю последн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ходится немногим боле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3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лощади поверхности Лу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рхность 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териков» гориста, ее уровень выше, чем у «морей»,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ность средних высот достига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3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Уровень в круговых «морях»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йонах несколько повышенной плотности лунной породы обычно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на километр ниже, чем у «морей» неправильной формы и уступает 4 к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ксимальной высоте «материков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Поверхность Луны покрыта большим числом кольцевых структур — кольцев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горами и кратерами ударного происхо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Видимые на поверхности линейные структуры — борозд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разломы и складки — являются свидетельствами тектонических процессо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_536i"/>
          <p:cNvPicPr/>
          <p:nvPr/>
        </p:nvPicPr>
        <p:blipFill>
          <a:blip r:embed="rId1"/>
          <a:stretch/>
        </p:blipFill>
        <p:spPr>
          <a:xfrm>
            <a:off x="6804000" y="404640"/>
            <a:ext cx="1771560" cy="27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6518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Луна движется вокруг Земли по почти эллиптической орбите со средней линей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скоростью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683 км/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т Земл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33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ксимально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55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оскость орбит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наклонена к плоскости эклиптики на уго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°08'43'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рбитального движ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,32166 земных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что совпадает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периодом осевого обращения Луны, благодаря этому Луна всегда обращена 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Земле одним и тем же полушари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з-за того что движение Луны по орбите не является равномерным, а также из-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клона плоскости экватора к плоскости ее орбиты, с Земли можно наблюд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есколько более чем половину поверхн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Лу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относительно Солнца составля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9,53 сут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ый ден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ая ноч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лятся почти п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течение лунного дня поверхность Луны нагревается, а ночью охлаждаетс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 этом температура на поверхности Луны меняется от 400 до 100 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рку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Меркурий, ближайшая к Солнц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большая планета Солнечной систем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араметры движения план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,387 астроном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иц (58 млн. км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88 су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в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58,6 су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ий диам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4878 к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,3·1023 кг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райне разрежена и состоит из 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r, Ne, 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Поверхность Меркурия по внешнему виду  подобна лунной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mht69(1)[1]"/>
          <p:cNvPicPr/>
          <p:nvPr/>
        </p:nvPicPr>
        <p:blipFill>
          <a:blip r:embed="rId1"/>
          <a:stretch/>
        </p:blipFill>
        <p:spPr>
          <a:xfrm>
            <a:off x="6659640" y="26028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и состав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36280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тность лунных пород составляет в среднем 3,343 г/см3, что заметно уступ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редней плотности для Земли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меются и различия в минералогическом составе лунных и земных пород: содерж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ксидов уплотнение вещества с глубиной проявляется на Земле значительно заметне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м на железа в лунных базальтах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5%,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а титана —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3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выше, чем в зем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орские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 на Луне отличаются повышенным содержанием оксидов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алюми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каль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тносительно более высокой плотностью, что связывают с их глубин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ждением.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Для исследования строения Луны использ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ейсмические мето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ерхностный слой — лунная кора имеет состав, близкий к составу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атериков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корой располагается верхняя мантия — слой толщиной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глубже — средняя мантия толщиной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нно в этом слое в результате частичного вплавления формир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морские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600-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глубокофокусные лунные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ейсмические очаг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е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ончается литосфера и начинается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лунная асте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лавленный слой, в котором, могут распространяться только продольные сейсм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ны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рхней части астеносферы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00 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 глуби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80-157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исходит резкое изменение скорости продольных волн — зд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ходит граница пятой зоны — ядра Луны. Поверхностный довольно рыхлый слой Лу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стоит из пород, раздробленных постоянным потоком падающих на нее твердых тел — 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икрометеоритов и пыли до крупных частиц — многотонных метеоритов и астероид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 поверхностью Луны газовая атмосфера как таковая отсутствует, так как не мож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ерживаться Луной вследствие ее малой массы.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В результате даже легчайшие атомы п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х тепловых скоростях способны преодолевать притяжение Луны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ческие поля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иболее тщательно исследовалось гравитационное поле Луны, что объясняется не тольк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отребностями космонавтики, но и дает важную информацию об особенностях строения Лу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ти исследования выявили нецентральность гравитационного поля, обусловленн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днородностью плотности не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Луны состави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,623 м/с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ое 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уны является весьма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лаб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составляе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1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агнитного поля Земл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у поверхности Луны не измерялось, но существуют теорет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азания на то, что из-за значительного приливного воздействия со стороны Земли внут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ны должно произойти перераспределение электрических зарядов, приводящее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ю над ее поверхностью электрического поля с напряженностью в некоторых точк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ядка киловольта на ме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уна светит отраженным солнечным светом; визуальное сферическое альбедо равн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0,075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 есть Луна отражает все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падающих на нее солнечных световых луч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Отражение падающего от внешнего источника света довольно заметно преобладает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направлении к этому источнику; по этой причине Луна ярче всего в полнолу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обственное тепловое излучение Луны незначит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ки ракет на Лу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2 января 1959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в СССР было осуществлен запуск первой в мире автоматическ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жпланетной станции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Луна– 1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ссой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1472 к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пролетела вблиз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ы на расстоянии меньше 6000 км от её поверхности и, выйдя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елиоцентрическую орбиту, стала первой в мире искусственной планет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лнечной систе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Сентябрь 1959 г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стоялся новый старт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–2 » .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чта фантастов сбылась: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зданный человеком аппарат впервые достиг другого небесного тел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октябре 1959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космическое путешествие отправился следующ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ник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 3 »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явились первые фотографии обратной стороны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сент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16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вершила мягкую посадку в район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оря Изобилия, произвела и взятие образцов гру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но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17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на её поверхность передвижн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1 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феврале 1972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экспедицию на Луну отправился следующий космическ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-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0»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Эта станция доставила на Землю образец лунного грунта из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труднодоступного горного район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1973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1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внутрь кратера Лемонье у восточ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раницы Моря  Ясности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2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.Возникли панорамы нашей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лёты по программ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Аполло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м летательным аппаратом, доставившим челове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рхность Луны, был американский космический кораб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 Аполлон – 11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лёт состоялся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16 июля 1969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 кабинете кораб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лись 3 астронавта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 Армстронг Н. Армстронг, М. Коллин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Э. Олдр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1 июля в 5ч 56мин на поверхность Луны вступил первый челове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Армстронг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тем к нему присоединился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. Олдр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оставили на Луне телевизионные и фотокамеры, инстру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бора лунных камней, ранцевые системы жизнеобеспечен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ое снаряжени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Н. Армстронг: « Из лунной кабины небо казалось черным, но на Луне было светло, как днём, и поверхность её была рыжевато-коричневой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l_536i"/>
          <p:cNvPicPr/>
          <p:nvPr/>
        </p:nvPicPr>
        <p:blipFill>
          <a:blip r:embed="rId1"/>
          <a:stretch/>
        </p:blipFill>
        <p:spPr>
          <a:xfrm>
            <a:off x="7711920" y="0"/>
            <a:ext cx="1432080" cy="22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Это</a:t>
            </a: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интересно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Челов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есивший на Земле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80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бу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ить на Луне около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3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Попав на Луну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ив свою мускульную силу, он с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ть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ше или дальше, чем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мле, поднимать тяжести,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ольшие, 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я с высоты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5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е причинять себе вре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62000"/>
            <a:ext cx="8820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Меркурий движется вокруг Солнца по си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вытянутой эллиптической орби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олжительность солнечных сут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а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тояние Меркурия от Зем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2 до 217 млн.к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няя скорость дви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круг Солнца 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7,89 км/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На Меркурии распределение масс не является стр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концентрическим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щение вокруг Солнца и его собственное вра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водят к тому, что длительность солнечных суток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нете равна трем звездным меркурианским суткам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вум меркурианским годам и состав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5,92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erkuri[1]"/>
          <p:cNvPicPr/>
          <p:nvPr/>
        </p:nvPicPr>
        <p:blipFill>
          <a:blip r:embed="rId1"/>
          <a:stretch/>
        </p:blipFill>
        <p:spPr>
          <a:xfrm>
            <a:off x="6588000" y="476280"/>
            <a:ext cx="2352960" cy="20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меры, форма и масса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По форме  планета близка к шару с экваториа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радиусом (2440 ± 2)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8 р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    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,8 раз мен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составляет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44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поверхности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7 м/с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ность полуос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кваториального эллипса составл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клонения геометрического центра планеты от цен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асс — порядка полутора километ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[24]"/>
          <p:cNvPicPr/>
          <p:nvPr/>
        </p:nvPicPr>
        <p:blipFill>
          <a:blip r:embed="rId1"/>
          <a:stretch/>
        </p:blipFill>
        <p:spPr>
          <a:xfrm>
            <a:off x="6786720" y="571680"/>
            <a:ext cx="19792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91908E-006 C -0.01336 -0.2874 -0.02656 -0.5748 -0.02222 -0.57087 C -0.01788 -0.56694 0.01841 -0.07006 0.02552 0.02335 C 0.03264 0.11676 0.02084 -0.01203 0.02066 -0.01064 C 0.02049 -0.00925 0.02223 0.01109 0.02396 0.03167 E">
                                      <p:cBhvr>
                                        <p:cTn id="8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мпература и рельеф    поверхности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8996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70c0"/>
                </a:solidFill>
                <a:latin typeface="Arial"/>
              </a:rPr>
              <a:t>Меркурий получает от центрального светила значительно большое количество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Из-за вытянутости орбиты поток энергии от Солнца варьируется примерно в два р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льшая продолжительность дня и ночи приводит к тому, что проявляются яркостные температуры на «дневной» и на «ночной» сторонах поверхности Меркурия (температура может изменяться примерно от 600 К до 100 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верхность Меркурия, покрытая раздробленным веществом базальтового типа, довольно темная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 наблюдениям с Земли, поверхность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Меркури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целом похожа на поверхность Луны, хотя контраст между темными и светлыми участками выражен слабее. Наряду с кратерами есть холмы и до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[33]"/>
          <p:cNvPicPr/>
          <p:nvPr/>
        </p:nvPicPr>
        <p:blipFill>
          <a:blip r:embed="rId1"/>
          <a:stretch/>
        </p:blipFill>
        <p:spPr>
          <a:xfrm>
            <a:off x="6443640" y="333360"/>
            <a:ext cx="2448000" cy="18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тмосфера и физические по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д поверхностью Меркурия имеются следы весьма разреж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тмосферы, содержащей гелий, водород,  углекислый газ, углер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ислород и благородные г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Близость Солнца обусловливает ощутимое влияние на Мерку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солнечного ветра. Благодаря этой близости воздействие Солнц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Меркурий, должно приводить к возникновению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ланеты электрического поля, напряженность которого может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римерно вдвое больше, чем у  «поля ясной погоды»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Земли, и отличается от последнего сравнительной стаби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 Меркурии имеется  магнитное по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i[35]"/>
          <p:cNvPicPr/>
          <p:nvPr/>
        </p:nvPicPr>
        <p:blipFill>
          <a:blip r:embed="rId1"/>
          <a:stretch/>
        </p:blipFill>
        <p:spPr>
          <a:xfrm>
            <a:off x="6804000" y="189000"/>
            <a:ext cx="2160720" cy="14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686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енера, вторая от Солнца и ближайшая  к Земле большая 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Солнеч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метры движения план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е расстояние от Солнца 0,72 а. 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24,7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щения                243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й радиус     6050 к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      4,9 . 1024 к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мосфера: CO2 (97%), N2 (ок. 3%), H2O (0,05%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си CO, SO2, HCl, H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 у поверхности    750 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вление 107 П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На поверхности Венеры обнаружены горы, кратеры, кам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Поверхностные породы Венеры близки по составу к земным 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а почти целиком состоит из углекислого газа (около 96%), а азота 3,2%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i[4]"/>
          <p:cNvPicPr/>
          <p:nvPr/>
        </p:nvPicPr>
        <p:blipFill>
          <a:blip r:embed="rId1"/>
          <a:stretch/>
        </p:blipFill>
        <p:spPr>
          <a:xfrm>
            <a:off x="6588000" y="2421000"/>
            <a:ext cx="2202120" cy="22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979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Венера движется вокруг Солнца по орби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располагающейся между орбитами Меркурия и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енера — единственная планета Солнечной системы, соб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ращение которой противоположно направлению ее обращения вокруг 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иод собственного вращения близок к 243 земным сут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-за  «обратного» направления вращения Венеры длительность солнечных суток на ней в 116,8 раз больше, чем на Земле, так что за один  венерианский год восход и заход Солнца на Венере происходит всего два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ояние от Венеры до Земли изменяется от 38 млн. км до 258 млн.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скорость движения по орбите 34,99 к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енера — наиболее яркое светило земного не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максимуме блеска она достигает -4,4 звезд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i[32]"/>
          <p:cNvPicPr/>
          <p:nvPr/>
        </p:nvPicPr>
        <p:blipFill>
          <a:blip r:embed="rId1"/>
          <a:stretch/>
        </p:blipFill>
        <p:spPr>
          <a:xfrm>
            <a:off x="6858000" y="260280"/>
            <a:ext cx="1604880" cy="19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10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0:13:09Z</dcterms:created>
  <dc:creator>саша</dc:creator>
  <dc:description/>
  <dc:language>en-US</dc:language>
  <cp:lastModifiedBy>Name</cp:lastModifiedBy>
  <dcterms:modified xsi:type="dcterms:W3CDTF">2010-09-23T12:06:05Z</dcterms:modified>
  <cp:revision>31</cp:revision>
  <dc:subject/>
  <dc:title>Малые плане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7000000000001024140</vt:lpwstr>
  </property>
</Properties>
</file>